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0.jpeg" ContentType="image/jpeg"/>
  <Override PartName="/ppt/media/image30.png" ContentType="image/png"/>
  <Override PartName="/ppt/media/image8.png" ContentType="image/png"/>
  <Override PartName="/ppt/media/image14.jpeg" ContentType="image/jpeg"/>
  <Override PartName="/ppt/media/image9.png" ContentType="image/png"/>
  <Override PartName="/ppt/media/image36.png" ContentType="image/png"/>
  <Override PartName="/ppt/media/image6.png" ContentType="image/png"/>
  <Override PartName="/ppt/media/image31.png" ContentType="image/png"/>
  <Override PartName="/ppt/media/image29.png" ContentType="image/png"/>
  <Override PartName="/ppt/media/image28.png" ContentType="image/png"/>
  <Override PartName="/ppt/media/image7.jpeg" ContentType="image/jpeg"/>
  <Override PartName="/ppt/media/image5.png" ContentType="image/png"/>
  <Override PartName="/ppt/media/image35.png" ContentType="image/png"/>
  <Override PartName="/ppt/media/image20.jpeg" ContentType="image/jpeg"/>
  <Override PartName="/ppt/media/image13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0174-E892-48BC-B7FC-4FF9CD689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C506-FDDA-46BE-BDBB-33F8B388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96F3-7B22-47B7-8C5B-C490EB462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C422-6AA9-4B19-9DC2-657FE6A6B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089A-4E41-4F98-9A79-875B9DA28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B5D6-C0E5-4DD1-8D38-E0337CF9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E542-1168-4297-806B-D16D874F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CD06-1440-486B-BDEC-D50214B5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B2D9-DD96-4334-9B93-6BEC241C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A38E-8F52-414C-964F-B2D591DE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AED4-498B-48BD-971A-7A4C19D5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A0FE-78AD-46FC-BEF3-DBDE3216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30E7-D5E8-45DD-A294-1D524478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EE5A-00E0-4E58-8346-8E4CF4A6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3D8F-2032-4BC3-9079-CA7C3D99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790E-364C-47E3-9F08-02C932200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99EF-FB53-4FE4-B15F-674DE9E1A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B65B-83D3-42EF-B274-48DF574C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4C54-69F3-48D8-94A5-5DF931CB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91F2-A307-44D3-9303-AE8AA294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2BB8-6A7F-4EBA-97A7-9CE39795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6107-D5FA-4061-B4EE-A217454C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109E-2BD3-41A5-AD55-6374A5AE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2083-B295-4AF1-A131-F8D1B47E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BE6D-DA25-4220-A8FC-FECD4D8D6C6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D237-1B4E-4D98-A060-BD9CF168923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4.png"/><Relationship Id="rId14" Type="http://schemas.openxmlformats.org/officeDocument/2006/relationships/image" Target="../media/image35.png"/><Relationship Id="rId15" Type="http://schemas.openxmlformats.org/officeDocument/2006/relationships/image" Target="../media/image36.png"/><Relationship Id="rId16" Type="http://schemas.openxmlformats.org/officeDocument/2006/relationships/image" Target="../media/image7.jpe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684360" y="966240"/>
            <a:ext cx="7200720" cy="33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5742a"/>
                </a:solidFill>
                <a:latin typeface="Arial"/>
              </a:rPr>
              <a:t>Специальные условия для  получения образования студент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5742a"/>
                </a:solidFill>
                <a:latin typeface="Arial"/>
              </a:rPr>
              <a:t>с нарушениями сл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50920" y="785880"/>
            <a:ext cx="86421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увеличения срока получения образования студентов с нарушениями слуха, но не более чем на 6 месяцев по профессиям СПО, на 10 месяцев по специальностям СП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методов обучения, исходя из их доступности для обучающихся с ОВЗ, использование практико-ориентированного (дуального) обучения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индивидуальных учебных планов и индивидуальных граф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бучении  студентов с нарушениями слуха электронное обучение и дистанционные образовательные технологии должны предусматривать возможность приема - передачи информации в доступных для них форм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формировании образовательной программы образовательная организация должна предусматривать включение адаптационных дисциплин, обеспечивающих коррекцию нарушений развития и социальную адаптац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бучающихся с нарушениями слуха выбор мест практик должен учитывать состояние здоровья и требования по доступ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еся  должны быть обеспечены печатными и (или) электронными образовательными ресурсами в формах, адаптированных к ограничениям их здоров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текущего контроля успеваемости, промежуточной и государственной итоговой аттестации обучающихся с учетом индивидуальных особенност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68360" y="35712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Требования к адаптации образовательных программ 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Методическая основа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разработки</a:t>
            </a:r>
            <a:br>
              <a:rPr sz="2400"/>
            </a:b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адаптированной образовательной программы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2428560"/>
            <a:ext cx="8229600" cy="37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ПИСЬМО" МИНПРОСВЕЩЕНИЯ РОССИИ ОТ 09.11.2022 N 05-1999 "О НАПРАВЛЕНИИ ИНФОРМАЦИИ" (ВМЕСТЕ С "МЕТОДИЧЕСКИМИ РЕКОМЕНДАЦИЯМИ ПО РАЗРАБОТКЕ (АКТУАЛИЗАЦИИ) И РЕАЛИЗАЦИИ ПРИМЕРНЫХ АДАПТИРОВАННЫХ ОБРАЗОВАТЕЛЬНЫХ ПРОГРАММ СРЕДНЕГО ПРОФЕССИОНАЛЬНОГО ОБРАЗОВАНИ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33"/>
                </a:solidFill>
                <a:latin typeface="Garamond"/>
              </a:rPr>
              <a:t>Варианты организации образовательного процесса</a:t>
            </a:r>
            <a:br>
              <a:rPr sz="2000"/>
            </a:br>
            <a:r>
              <a:rPr b="1" lang="ru-RU" sz="2000" spc="-1" strike="noStrike">
                <a:solidFill>
                  <a:srgbClr val="006633"/>
                </a:solidFill>
                <a:latin typeface="Garamond"/>
              </a:rPr>
              <a:t>по АОП СПО для инвалидов и лиц с ОВЗ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ИАНТ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15 чел. в группе по одной ноз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диная АОП СПО для группы по одной ноз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ИАНТ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15 чел. в группе с разными видами нозолог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ОП СПО для нескольких обучающихся каждого вида нозологий (нарушения слуха, нарушения зрения и т.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ИАНТ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ычной группе (до 25 чел.) обучаются несколько студентов с инвалидов и/или лиц с ОВ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ОП СПО для каждого обучающегося в соответствии с нозологией &lt;*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Рекомендации 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499680"/>
            <a:ext cx="822960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лечение внимания, разговаривая, смотрите на лицо слушающе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тор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 мимики, жестов, чёткой артикуля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ения простые, коротк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объяснении профессиональных терминов – проведение словарной работ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ублирование звуковой информации письменн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ь на доске используемых термин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знообразн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глядного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2357280"/>
            <a:ext cx="8507160" cy="4500720"/>
            <a:chOff x="0" y="2357280"/>
            <a:chExt cx="8507160" cy="4500720"/>
          </a:xfrm>
        </p:grpSpPr>
        <p:sp>
          <p:nvSpPr>
            <p:cNvPr id="126" name="AutoShape 3"/>
            <p:cNvSpPr/>
            <p:nvPr/>
          </p:nvSpPr>
          <p:spPr>
            <a:xfrm>
              <a:off x="499680" y="5945040"/>
              <a:ext cx="4898520" cy="912960"/>
            </a:xfrm>
            <a:prstGeom prst="pie">
              <a:avLst/>
            </a:prstGeom>
            <a:solidFill>
              <a:srgbClr val="9fca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4"/>
            <p:cNvSpPr/>
            <p:nvPr/>
          </p:nvSpPr>
          <p:spPr>
            <a:xfrm>
              <a:off x="485640" y="5938560"/>
              <a:ext cx="3654360" cy="9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5789160"/>
              <a:ext cx="3398760" cy="10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5784120"/>
              <a:ext cx="3371400" cy="107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7" descr=""/>
            <p:cNvPicPr/>
            <p:nvPr/>
          </p:nvPicPr>
          <p:blipFill>
            <a:blip r:embed="rId3"/>
            <a:stretch/>
          </p:blipFill>
          <p:spPr>
            <a:xfrm>
              <a:off x="1087560" y="2357280"/>
              <a:ext cx="7419600" cy="41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"/>
            <p:cNvPicPr/>
            <p:nvPr/>
          </p:nvPicPr>
          <p:blipFill>
            <a:blip r:embed="rId4"/>
            <a:stretch/>
          </p:blipFill>
          <p:spPr>
            <a:xfrm>
              <a:off x="1151640" y="2421360"/>
              <a:ext cx="7236720" cy="39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Rectangle 9"/>
            <p:cNvSpPr/>
            <p:nvPr/>
          </p:nvSpPr>
          <p:spPr>
            <a:xfrm>
              <a:off x="1132920" y="2402280"/>
              <a:ext cx="7274880" cy="4015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0"/>
          <p:cNvGrpSpPr/>
          <p:nvPr/>
        </p:nvGrpSpPr>
        <p:grpSpPr>
          <a:xfrm>
            <a:off x="0" y="214200"/>
            <a:ext cx="8869320" cy="1857600"/>
            <a:chOff x="0" y="214200"/>
            <a:chExt cx="8869320" cy="1857600"/>
          </a:xfrm>
        </p:grpSpPr>
        <p:sp>
          <p:nvSpPr>
            <p:cNvPr id="135" name="Rectangle 13"/>
            <p:cNvSpPr/>
            <p:nvPr/>
          </p:nvSpPr>
          <p:spPr>
            <a:xfrm>
              <a:off x="0" y="214200"/>
              <a:ext cx="8441280" cy="1266840"/>
            </a:xfrm>
            <a:prstGeom prst="rect">
              <a:avLst/>
            </a:prstGeom>
            <a:solidFill>
              <a:srgbClr val="78d5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12" descr=""/>
            <p:cNvPicPr/>
            <p:nvPr/>
          </p:nvPicPr>
          <p:blipFill>
            <a:blip r:embed="rId5"/>
            <a:stretch/>
          </p:blipFill>
          <p:spPr>
            <a:xfrm>
              <a:off x="7830000" y="754920"/>
              <a:ext cx="1039320" cy="131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1"/>
            <p:cNvSpPr/>
            <p:nvPr/>
          </p:nvSpPr>
          <p:spPr>
            <a:xfrm>
              <a:off x="0" y="214200"/>
              <a:ext cx="886932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tangle 16"/>
          <p:cNvSpPr/>
          <p:nvPr/>
        </p:nvSpPr>
        <p:spPr>
          <a:xfrm>
            <a:off x="1000080" y="21852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4976"/>
                </a:solidFill>
                <a:latin typeface="Arial"/>
                <a:ea typeface="Calibri"/>
              </a:rPr>
              <a:t>ДЕМОНСТРАЦИОННЫЕ РОЛИКИ С СУБТИТ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168120"/>
            <a:ext cx="9144000" cy="6689880"/>
            <a:chOff x="0" y="168120"/>
            <a:chExt cx="9144000" cy="6689880"/>
          </a:xfrm>
        </p:grpSpPr>
        <p:sp>
          <p:nvSpPr>
            <p:cNvPr id="140" name="AutoShape 3"/>
            <p:cNvSpPr/>
            <p:nvPr/>
          </p:nvSpPr>
          <p:spPr>
            <a:xfrm>
              <a:off x="499680" y="5944680"/>
              <a:ext cx="4898520" cy="912960"/>
            </a:xfrm>
            <a:prstGeom prst="pie">
              <a:avLst/>
            </a:prstGeom>
            <a:solidFill>
              <a:srgbClr val="9fca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"/>
            <p:cNvSpPr/>
            <p:nvPr/>
          </p:nvSpPr>
          <p:spPr>
            <a:xfrm>
              <a:off x="485640" y="5938560"/>
              <a:ext cx="3654360" cy="9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5789160"/>
              <a:ext cx="3398400" cy="106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5784120"/>
              <a:ext cx="3371040" cy="107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7" descr="D:\Инклюзия\Повышение квалификации\digimaster5000.jpg"/>
            <p:cNvPicPr/>
            <p:nvPr/>
          </p:nvPicPr>
          <p:blipFill>
            <a:blip r:embed="rId3"/>
            <a:stretch/>
          </p:blipFill>
          <p:spPr>
            <a:xfrm>
              <a:off x="0" y="3621600"/>
              <a:ext cx="1836360" cy="283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8" descr="D:\Инклюзия\Повышение квалификации\IMG_20170116_182942.png"/>
            <p:cNvPicPr/>
            <p:nvPr/>
          </p:nvPicPr>
          <p:blipFill>
            <a:blip r:embed="rId4"/>
            <a:stretch/>
          </p:blipFill>
          <p:spPr>
            <a:xfrm>
              <a:off x="1979280" y="3506040"/>
              <a:ext cx="1376640" cy="294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9" descr=""/>
            <p:cNvPicPr/>
            <p:nvPr/>
          </p:nvPicPr>
          <p:blipFill>
            <a:blip r:embed="rId5"/>
            <a:stretch/>
          </p:blipFill>
          <p:spPr>
            <a:xfrm>
              <a:off x="3497400" y="4076280"/>
              <a:ext cx="3153240" cy="127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10" descr="C:\Users\Gribanova\Desktop\09.10.2017 Фото оборудования по инклюзии\DSC_1240.JPG"/>
            <p:cNvPicPr/>
            <p:nvPr/>
          </p:nvPicPr>
          <p:blipFill>
            <a:blip r:embed="rId6"/>
            <a:stretch/>
          </p:blipFill>
          <p:spPr>
            <a:xfrm>
              <a:off x="3634560" y="1535400"/>
              <a:ext cx="2882160" cy="183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11" descr="D:\Инклюзия\Повышение квалификации\krust-indigo.jpg"/>
            <p:cNvPicPr/>
            <p:nvPr/>
          </p:nvPicPr>
          <p:blipFill>
            <a:blip r:embed="rId7"/>
            <a:stretch/>
          </p:blipFill>
          <p:spPr>
            <a:xfrm>
              <a:off x="6477120" y="1489680"/>
              <a:ext cx="2666880" cy="20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12" descr="D:\Инклюзия\Повышение квалификации\2018\vizualno-akusticheskoe-tablo-mng.jpg"/>
            <p:cNvPicPr/>
            <p:nvPr/>
          </p:nvPicPr>
          <p:blipFill>
            <a:blip r:embed="rId8"/>
            <a:stretch/>
          </p:blipFill>
          <p:spPr>
            <a:xfrm>
              <a:off x="7092360" y="3365640"/>
              <a:ext cx="1655280" cy="135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13" descr="D:\Инклюзия\Повышение квалификации\2018\led-ticker-full_2.jpg"/>
            <p:cNvPicPr/>
            <p:nvPr/>
          </p:nvPicPr>
          <p:blipFill>
            <a:blip r:embed="rId9"/>
            <a:stretch/>
          </p:blipFill>
          <p:spPr>
            <a:xfrm>
              <a:off x="6228000" y="4996440"/>
              <a:ext cx="2286000" cy="17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Rectangle 14"/>
            <p:cNvSpPr/>
            <p:nvPr/>
          </p:nvSpPr>
          <p:spPr>
            <a:xfrm>
              <a:off x="293760" y="168120"/>
              <a:ext cx="8639640" cy="744120"/>
            </a:xfrm>
            <a:prstGeom prst="rect">
              <a:avLst/>
            </a:prstGeom>
            <a:solidFill>
              <a:srgbClr val="78d5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Технические средства обуч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Picture 15" descr=""/>
            <p:cNvPicPr/>
            <p:nvPr/>
          </p:nvPicPr>
          <p:blipFill>
            <a:blip r:embed="rId10"/>
            <a:stretch/>
          </p:blipFill>
          <p:spPr>
            <a:xfrm>
              <a:off x="7902000" y="763560"/>
              <a:ext cx="1039320" cy="103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Group 16"/>
          <p:cNvGrpSpPr/>
          <p:nvPr/>
        </p:nvGrpSpPr>
        <p:grpSpPr>
          <a:xfrm>
            <a:off x="96840" y="1469880"/>
            <a:ext cx="3258720" cy="1789200"/>
            <a:chOff x="96840" y="1469880"/>
            <a:chExt cx="3258720" cy="1789200"/>
          </a:xfrm>
        </p:grpSpPr>
        <p:pic>
          <p:nvPicPr>
            <p:cNvPr id="154" name="Picture 17" descr="D:\Инклюзия\1\Phonak-Roger-Inspiro.jpg"/>
            <p:cNvPicPr/>
            <p:nvPr/>
          </p:nvPicPr>
          <p:blipFill>
            <a:blip r:embed="rId11"/>
            <a:stretch/>
          </p:blipFill>
          <p:spPr>
            <a:xfrm>
              <a:off x="96840" y="1469880"/>
              <a:ext cx="1041480" cy="17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18" descr="D:\Инклюзия\1\orig.jpg"/>
            <p:cNvPicPr/>
            <p:nvPr/>
          </p:nvPicPr>
          <p:blipFill>
            <a:blip r:embed="rId12"/>
            <a:stretch/>
          </p:blipFill>
          <p:spPr>
            <a:xfrm>
              <a:off x="1044720" y="1481760"/>
              <a:ext cx="1256760" cy="177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19" descr="D:\Инклюзия\1\11840.jpg"/>
            <p:cNvPicPr/>
            <p:nvPr/>
          </p:nvPicPr>
          <p:blipFill>
            <a:blip r:embed="rId13"/>
            <a:stretch/>
          </p:blipFill>
          <p:spPr>
            <a:xfrm>
              <a:off x="2301480" y="1527480"/>
              <a:ext cx="1054080" cy="1650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378000"/>
            <a:ext cx="9143640" cy="6480000"/>
            <a:chOff x="0" y="378000"/>
            <a:chExt cx="9143640" cy="6480000"/>
          </a:xfrm>
        </p:grpSpPr>
        <p:sp>
          <p:nvSpPr>
            <p:cNvPr id="158" name="AutoShape 3"/>
            <p:cNvSpPr/>
            <p:nvPr/>
          </p:nvSpPr>
          <p:spPr>
            <a:xfrm>
              <a:off x="499680" y="5945040"/>
              <a:ext cx="4898520" cy="912960"/>
            </a:xfrm>
            <a:prstGeom prst="pie">
              <a:avLst/>
            </a:prstGeom>
            <a:solidFill>
              <a:srgbClr val="9fca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4"/>
            <p:cNvSpPr/>
            <p:nvPr/>
          </p:nvSpPr>
          <p:spPr>
            <a:xfrm>
              <a:off x="485640" y="5938560"/>
              <a:ext cx="3654360" cy="9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5789160"/>
              <a:ext cx="3398400" cy="10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5784120"/>
              <a:ext cx="3371040" cy="107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7" descr=""/>
            <p:cNvPicPr/>
            <p:nvPr/>
          </p:nvPicPr>
          <p:blipFill>
            <a:blip r:embed="rId3"/>
            <a:stretch/>
          </p:blipFill>
          <p:spPr>
            <a:xfrm>
              <a:off x="827280" y="1628640"/>
              <a:ext cx="7873200" cy="479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8" descr=""/>
            <p:cNvPicPr/>
            <p:nvPr/>
          </p:nvPicPr>
          <p:blipFill>
            <a:blip r:embed="rId4"/>
            <a:stretch/>
          </p:blipFill>
          <p:spPr>
            <a:xfrm>
              <a:off x="150480" y="378000"/>
              <a:ext cx="865080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9" descr=""/>
            <p:cNvPicPr/>
            <p:nvPr/>
          </p:nvPicPr>
          <p:blipFill>
            <a:blip r:embed="rId5"/>
            <a:stretch/>
          </p:blipFill>
          <p:spPr>
            <a:xfrm>
              <a:off x="8104320" y="981000"/>
              <a:ext cx="1039320" cy="103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"/>
          <p:cNvSpPr/>
          <p:nvPr/>
        </p:nvSpPr>
        <p:spPr>
          <a:xfrm>
            <a:off x="785880" y="523080"/>
            <a:ext cx="792936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  <a:ea typeface="Microsoft Sans Serif"/>
              </a:rPr>
              <a:t>С</a:t>
            </a:r>
            <a:r>
              <a:rPr b="0" i="1" lang="ru-RU" sz="3200" spc="-1" strike="noStrike">
                <a:solidFill>
                  <a:srgbClr val="0033cc"/>
                </a:solidFill>
                <a:latin typeface="Times New Roman"/>
                <a:ea typeface="Microsoft Sans Serif"/>
              </a:rPr>
              <a:t>пециальные технические сред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беспроводная система линейног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Sans Serif"/>
              </a:rPr>
              <a:t> </a:t>
            </a:r>
            <a:r>
              <a:rPr b="0" lang="ru-RU" sz="24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акустического изл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радио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беспроводная технология передачи звука (FM-систем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комплекты электроакустического и звукоусиливающего оборудования с комбинированными элементами проводных и беспроводных систем на базе профессиональных усили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мультимедиа-компьюте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мультимедийный проекто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интерактивные и сенсорные до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image39.jpeg" descr=""/>
          <p:cNvPicPr/>
          <p:nvPr/>
        </p:nvPicPr>
        <p:blipFill>
          <a:blip r:embed="rId1"/>
          <a:stretch/>
        </p:blipFill>
        <p:spPr>
          <a:xfrm>
            <a:off x="282600" y="2001960"/>
            <a:ext cx="8578800" cy="28540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"/>
          <p:cNvSpPr/>
          <p:nvPr/>
        </p:nvSpPr>
        <p:spPr>
          <a:xfrm>
            <a:off x="1000080" y="573840"/>
            <a:ext cx="714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4976"/>
                </a:solidFill>
                <a:latin typeface="Arial"/>
                <a:ea typeface="Calibri"/>
              </a:rPr>
              <a:t>ПЛАНШЕТЫ ДЛЯ ОБЩЕНИЯ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4976"/>
                </a:solidFill>
                <a:latin typeface="Arial"/>
                <a:ea typeface="Calibri"/>
              </a:rPr>
              <a:t>ПРОГРАММА ИСТОК СИНХ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2"/>
          <p:cNvGrpSpPr/>
          <p:nvPr/>
        </p:nvGrpSpPr>
        <p:grpSpPr>
          <a:xfrm>
            <a:off x="928800" y="1214280"/>
            <a:ext cx="7428960" cy="4643640"/>
            <a:chOff x="928800" y="1214280"/>
            <a:chExt cx="7428960" cy="4643640"/>
          </a:xfrm>
        </p:grpSpPr>
        <p:sp>
          <p:nvSpPr>
            <p:cNvPr id="169" name="AutoShape 3"/>
            <p:cNvSpPr/>
            <p:nvPr/>
          </p:nvSpPr>
          <p:spPr>
            <a:xfrm>
              <a:off x="1341360" y="5174280"/>
              <a:ext cx="4045320" cy="683280"/>
            </a:xfrm>
            <a:prstGeom prst="pie">
              <a:avLst/>
            </a:prstGeom>
            <a:solidFill>
              <a:srgbClr val="9fca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"/>
            <p:cNvSpPr/>
            <p:nvPr/>
          </p:nvSpPr>
          <p:spPr>
            <a:xfrm>
              <a:off x="1329840" y="5169600"/>
              <a:ext cx="3017880" cy="688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Picture 5" descr=""/>
            <p:cNvPicPr/>
            <p:nvPr/>
          </p:nvPicPr>
          <p:blipFill>
            <a:blip r:embed="rId1"/>
            <a:stretch/>
          </p:blipFill>
          <p:spPr>
            <a:xfrm>
              <a:off x="928800" y="5057640"/>
              <a:ext cx="280656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6" descr=""/>
            <p:cNvPicPr/>
            <p:nvPr/>
          </p:nvPicPr>
          <p:blipFill>
            <a:blip r:embed="rId2"/>
            <a:stretch/>
          </p:blipFill>
          <p:spPr>
            <a:xfrm>
              <a:off x="928800" y="5054040"/>
              <a:ext cx="2783880" cy="80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7" descr=""/>
            <p:cNvPicPr/>
            <p:nvPr/>
          </p:nvPicPr>
          <p:blipFill>
            <a:blip r:embed="rId3"/>
            <a:stretch/>
          </p:blipFill>
          <p:spPr>
            <a:xfrm>
              <a:off x="3764160" y="3810960"/>
              <a:ext cx="1704240" cy="15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Freeform 8"/>
            <p:cNvSpPr/>
            <p:nvPr/>
          </p:nvSpPr>
          <p:spPr>
            <a:xfrm>
              <a:off x="3764160" y="3810960"/>
              <a:ext cx="1704240" cy="1544760"/>
            </a:xfrm>
            <a:prstGeom prst="pie">
              <a:avLst/>
            </a:prstGeom>
            <a:noFill/>
            <a:ln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Picture 9" descr=""/>
            <p:cNvPicPr/>
            <p:nvPr/>
          </p:nvPicPr>
          <p:blipFill>
            <a:blip r:embed="rId4"/>
            <a:stretch/>
          </p:blipFill>
          <p:spPr>
            <a:xfrm>
              <a:off x="2051280" y="4376160"/>
              <a:ext cx="1618560" cy="44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Freeform 10"/>
            <p:cNvSpPr/>
            <p:nvPr/>
          </p:nvSpPr>
          <p:spPr>
            <a:xfrm>
              <a:off x="2051280" y="4376160"/>
              <a:ext cx="1618560" cy="440640"/>
            </a:xfrm>
            <a:prstGeom prst="pie">
              <a:avLst/>
            </a:prstGeom>
            <a:noFill/>
            <a:ln w="648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Picture 11" descr=""/>
            <p:cNvPicPr/>
            <p:nvPr/>
          </p:nvPicPr>
          <p:blipFill>
            <a:blip r:embed="rId5"/>
            <a:stretch/>
          </p:blipFill>
          <p:spPr>
            <a:xfrm>
              <a:off x="1457280" y="4179240"/>
              <a:ext cx="11934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Freeform 12"/>
            <p:cNvSpPr/>
            <p:nvPr/>
          </p:nvSpPr>
          <p:spPr>
            <a:xfrm>
              <a:off x="1457280" y="4179240"/>
              <a:ext cx="1193400" cy="865080"/>
            </a:xfrm>
            <a:prstGeom prst="pie">
              <a:avLst/>
            </a:prstGeom>
            <a:noFill/>
            <a:ln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Picture 13" descr=""/>
            <p:cNvPicPr/>
            <p:nvPr/>
          </p:nvPicPr>
          <p:blipFill>
            <a:blip r:embed="rId6"/>
            <a:stretch/>
          </p:blipFill>
          <p:spPr>
            <a:xfrm>
              <a:off x="2462040" y="3127680"/>
              <a:ext cx="1387080" cy="100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Freeform 14"/>
            <p:cNvSpPr/>
            <p:nvPr/>
          </p:nvSpPr>
          <p:spPr>
            <a:xfrm>
              <a:off x="2462040" y="3127680"/>
              <a:ext cx="1387080" cy="1005480"/>
            </a:xfrm>
            <a:prstGeom prst="pie">
              <a:avLst/>
            </a:prstGeom>
            <a:noFill/>
            <a:ln w="648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15" descr=""/>
            <p:cNvPicPr/>
            <p:nvPr/>
          </p:nvPicPr>
          <p:blipFill>
            <a:blip r:embed="rId7"/>
            <a:stretch/>
          </p:blipFill>
          <p:spPr>
            <a:xfrm>
              <a:off x="1950120" y="2801880"/>
              <a:ext cx="11934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Freeform 16"/>
            <p:cNvSpPr/>
            <p:nvPr/>
          </p:nvSpPr>
          <p:spPr>
            <a:xfrm>
              <a:off x="1950120" y="2801880"/>
              <a:ext cx="1193400" cy="865080"/>
            </a:xfrm>
            <a:prstGeom prst="pie">
              <a:avLst/>
            </a:prstGeom>
            <a:noFill/>
            <a:ln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Picture 17" descr=""/>
            <p:cNvPicPr/>
            <p:nvPr/>
          </p:nvPicPr>
          <p:blipFill>
            <a:blip r:embed="rId8"/>
            <a:stretch/>
          </p:blipFill>
          <p:spPr>
            <a:xfrm>
              <a:off x="3700080" y="2343600"/>
              <a:ext cx="784800" cy="142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Freeform 18"/>
            <p:cNvSpPr/>
            <p:nvPr/>
          </p:nvSpPr>
          <p:spPr>
            <a:xfrm>
              <a:off x="3700080" y="2343600"/>
              <a:ext cx="784800" cy="1423440"/>
            </a:xfrm>
            <a:prstGeom prst="pie">
              <a:avLst/>
            </a:prstGeom>
            <a:noFill/>
            <a:ln w="648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Picture 19" descr=""/>
            <p:cNvPicPr/>
            <p:nvPr/>
          </p:nvPicPr>
          <p:blipFill>
            <a:blip r:embed="rId9"/>
            <a:stretch/>
          </p:blipFill>
          <p:spPr>
            <a:xfrm>
              <a:off x="3242880" y="1950840"/>
              <a:ext cx="1193400" cy="86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Freeform 20"/>
            <p:cNvSpPr/>
            <p:nvPr/>
          </p:nvSpPr>
          <p:spPr>
            <a:xfrm>
              <a:off x="3242880" y="1950840"/>
              <a:ext cx="1193400" cy="866160"/>
            </a:xfrm>
            <a:prstGeom prst="pie">
              <a:avLst/>
            </a:prstGeom>
            <a:noFill/>
            <a:ln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Picture 21" descr=""/>
            <p:cNvPicPr/>
            <p:nvPr/>
          </p:nvPicPr>
          <p:blipFill>
            <a:blip r:embed="rId10"/>
            <a:stretch/>
          </p:blipFill>
          <p:spPr>
            <a:xfrm>
              <a:off x="4766760" y="2341440"/>
              <a:ext cx="80748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Freeform 22"/>
            <p:cNvSpPr/>
            <p:nvPr/>
          </p:nvSpPr>
          <p:spPr>
            <a:xfrm>
              <a:off x="4766760" y="2341440"/>
              <a:ext cx="807480" cy="1428840"/>
            </a:xfrm>
            <a:prstGeom prst="pie">
              <a:avLst/>
            </a:prstGeom>
            <a:noFill/>
            <a:ln w="648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Picture 23" descr=""/>
            <p:cNvPicPr/>
            <p:nvPr/>
          </p:nvPicPr>
          <p:blipFill>
            <a:blip r:embed="rId11"/>
            <a:stretch/>
          </p:blipFill>
          <p:spPr>
            <a:xfrm>
              <a:off x="4840200" y="1950840"/>
              <a:ext cx="1193400" cy="86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Freeform 24"/>
            <p:cNvSpPr/>
            <p:nvPr/>
          </p:nvSpPr>
          <p:spPr>
            <a:xfrm>
              <a:off x="4840200" y="1950840"/>
              <a:ext cx="1193400" cy="866160"/>
            </a:xfrm>
            <a:prstGeom prst="pie">
              <a:avLst/>
            </a:prstGeom>
            <a:noFill/>
            <a:ln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1" name="Picture 25" descr=""/>
            <p:cNvPicPr/>
            <p:nvPr/>
          </p:nvPicPr>
          <p:blipFill>
            <a:blip r:embed="rId12"/>
            <a:stretch/>
          </p:blipFill>
          <p:spPr>
            <a:xfrm>
              <a:off x="5391360" y="3126600"/>
              <a:ext cx="1420920" cy="10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Freeform 26"/>
            <p:cNvSpPr/>
            <p:nvPr/>
          </p:nvSpPr>
          <p:spPr>
            <a:xfrm>
              <a:off x="5391360" y="3126600"/>
              <a:ext cx="1420920" cy="1014840"/>
            </a:xfrm>
            <a:prstGeom prst="pie">
              <a:avLst/>
            </a:prstGeom>
            <a:noFill/>
            <a:ln w="648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Picture 27" descr=""/>
            <p:cNvPicPr/>
            <p:nvPr/>
          </p:nvPicPr>
          <p:blipFill>
            <a:blip r:embed="rId13"/>
            <a:stretch/>
          </p:blipFill>
          <p:spPr>
            <a:xfrm>
              <a:off x="6131520" y="2801880"/>
              <a:ext cx="11934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Freeform 28"/>
            <p:cNvSpPr/>
            <p:nvPr/>
          </p:nvSpPr>
          <p:spPr>
            <a:xfrm>
              <a:off x="6131520" y="2801880"/>
              <a:ext cx="1193400" cy="865080"/>
            </a:xfrm>
            <a:prstGeom prst="pie">
              <a:avLst/>
            </a:prstGeom>
            <a:noFill/>
            <a:ln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29" descr=""/>
            <p:cNvPicPr/>
            <p:nvPr/>
          </p:nvPicPr>
          <p:blipFill>
            <a:blip r:embed="rId14"/>
            <a:stretch/>
          </p:blipFill>
          <p:spPr>
            <a:xfrm>
              <a:off x="5564880" y="4376160"/>
              <a:ext cx="1658520" cy="44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Freeform 30"/>
            <p:cNvSpPr/>
            <p:nvPr/>
          </p:nvSpPr>
          <p:spPr>
            <a:xfrm>
              <a:off x="5564880" y="4376160"/>
              <a:ext cx="1658520" cy="440640"/>
            </a:xfrm>
            <a:prstGeom prst="pie">
              <a:avLst/>
            </a:prstGeom>
            <a:noFill/>
            <a:ln w="648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Picture 31" descr=""/>
            <p:cNvPicPr/>
            <p:nvPr/>
          </p:nvPicPr>
          <p:blipFill>
            <a:blip r:embed="rId15"/>
            <a:stretch/>
          </p:blipFill>
          <p:spPr>
            <a:xfrm>
              <a:off x="6624720" y="4179240"/>
              <a:ext cx="119448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Freeform 32"/>
            <p:cNvSpPr/>
            <p:nvPr/>
          </p:nvSpPr>
          <p:spPr>
            <a:xfrm>
              <a:off x="6624720" y="4179240"/>
              <a:ext cx="1194480" cy="865080"/>
            </a:xfrm>
            <a:prstGeom prst="pie">
              <a:avLst/>
            </a:prstGeom>
            <a:noFill/>
            <a:ln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Picture 33" descr=""/>
            <p:cNvPicPr/>
            <p:nvPr/>
          </p:nvPicPr>
          <p:blipFill>
            <a:blip r:embed="rId16"/>
            <a:stretch/>
          </p:blipFill>
          <p:spPr>
            <a:xfrm>
              <a:off x="7499520" y="1214280"/>
              <a:ext cx="858240" cy="777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Особые образовательные потребности студентов с нарушениями слуха.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8" name="Image 1" descr="https://ucarecdn.com/476ede8a-f952-4974-b5bb-f361647723d5/"/>
          <p:cNvPicPr/>
          <p:nvPr/>
        </p:nvPicPr>
        <p:blipFill>
          <a:blip r:embed="rId1"/>
          <a:stretch/>
        </p:blipFill>
        <p:spPr>
          <a:xfrm>
            <a:off x="536400" y="1600200"/>
            <a:ext cx="80712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642960" y="807840"/>
            <a:ext cx="77151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  </a:t>
            </a:r>
            <a:r>
              <a:rPr b="0" lang="ru-RU" sz="20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необходимость развития и использования остаточного слуха в образовательных, познавательных и коммуникативных ситуац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  </a:t>
            </a:r>
            <a:r>
              <a:rPr b="0" lang="ru-RU" sz="20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создание условий и возможностей для эффективного использования студентами данной категории слухо-зрительного, слухового и зрительного восприятия обращенной речи говорящего человека и различных форм коммуник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  </a:t>
            </a:r>
            <a:r>
              <a:rPr b="0" lang="ru-RU" sz="20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восполнение недостатка знаний об окружающем мире, связанного с ограничением возможн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  </a:t>
            </a:r>
            <a:r>
              <a:rPr b="0" lang="ru-RU" sz="20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формирование социальной компетентности и навыков поведения в инклюзивном образовательном пространстве колледж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  </a:t>
            </a:r>
            <a:r>
              <a:rPr b="0" lang="ru-RU" sz="20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развитие потребностно-мотивационной и эмоционально-волевой сфе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  </a:t>
            </a:r>
            <a:r>
              <a:rPr b="0" lang="ru-RU" sz="20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формирование способности к максимально независимой жизни в обществе через профессиональное самоопределение, социально-трудовую адаптацию, активную и оптимистическую жизненную позиции многое друг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Педагогические принципы: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214280"/>
            <a:ext cx="82296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использования информационных техн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785880" y="2746440"/>
            <a:ext cx="7714800" cy="3754440"/>
            <a:chOff x="785880" y="2746440"/>
            <a:chExt cx="7714800" cy="3754440"/>
          </a:xfrm>
        </p:grpSpPr>
        <p:sp>
          <p:nvSpPr>
            <p:cNvPr id="93" name="AutoShape 9"/>
            <p:cNvSpPr/>
            <p:nvPr/>
          </p:nvSpPr>
          <p:spPr>
            <a:xfrm>
              <a:off x="1283760" y="5667120"/>
              <a:ext cx="4882320" cy="833760"/>
            </a:xfrm>
            <a:prstGeom prst="pie">
              <a:avLst/>
            </a:prstGeom>
            <a:solidFill>
              <a:srgbClr val="9fca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>
              <a:off x="1269720" y="5661360"/>
              <a:ext cx="3642120" cy="83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11" descr=""/>
            <p:cNvPicPr/>
            <p:nvPr/>
          </p:nvPicPr>
          <p:blipFill>
            <a:blip r:embed="rId1"/>
            <a:stretch/>
          </p:blipFill>
          <p:spPr>
            <a:xfrm>
              <a:off x="785880" y="5525280"/>
              <a:ext cx="3387240" cy="97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12" descr=""/>
            <p:cNvPicPr/>
            <p:nvPr/>
          </p:nvPicPr>
          <p:blipFill>
            <a:blip r:embed="rId2"/>
            <a:stretch/>
          </p:blipFill>
          <p:spPr>
            <a:xfrm>
              <a:off x="785880" y="5520600"/>
              <a:ext cx="3359880" cy="98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13" descr=""/>
            <p:cNvPicPr/>
            <p:nvPr/>
          </p:nvPicPr>
          <p:blipFill>
            <a:blip r:embed="rId3"/>
            <a:stretch/>
          </p:blipFill>
          <p:spPr>
            <a:xfrm>
              <a:off x="1990080" y="2746440"/>
              <a:ext cx="6510600" cy="3445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857160"/>
            <a:ext cx="8843760" cy="6000840"/>
            <a:chOff x="0" y="857160"/>
            <a:chExt cx="8843760" cy="6000840"/>
          </a:xfrm>
        </p:grpSpPr>
        <p:sp>
          <p:nvSpPr>
            <p:cNvPr id="99" name="AutoShape 3"/>
            <p:cNvSpPr/>
            <p:nvPr/>
          </p:nvSpPr>
          <p:spPr>
            <a:xfrm>
              <a:off x="499680" y="5807160"/>
              <a:ext cx="4898520" cy="1050480"/>
            </a:xfrm>
            <a:prstGeom prst="pie">
              <a:avLst/>
            </a:prstGeom>
            <a:solidFill>
              <a:srgbClr val="9fca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485640" y="5799960"/>
              <a:ext cx="3654720" cy="105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5628240"/>
              <a:ext cx="3398760" cy="122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5622480"/>
              <a:ext cx="3371400" cy="123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7" descr=""/>
            <p:cNvPicPr/>
            <p:nvPr/>
          </p:nvPicPr>
          <p:blipFill>
            <a:blip r:embed="rId3"/>
            <a:stretch/>
          </p:blipFill>
          <p:spPr>
            <a:xfrm>
              <a:off x="377640" y="857160"/>
              <a:ext cx="8466120" cy="5111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000080"/>
            <a:ext cx="822960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глядность: выделение основных сторон, признаков предметов и явлений; демонстрация пособий: сочетание реалистичных и схематичных изображений изучаемых объек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чертежей, модел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есные методы обучения: отбор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000080"/>
            <a:ext cx="822960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орные конспекты, схе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чающие видеофильмы с сурдоперевод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онные учебные пособия по профессии/специальности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даптированные задания, адаптированный текс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имация с гиперссылк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ные модели, конструкторы, компьютерный и лабораторный практику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письменных и устных средств коммуник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адение различными социальными рол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ие представлять и защищать результаты своей раб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ючение студентов в групповую дея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языку  как средству общ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остаточного слуха студ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78d5ea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Garamond"/>
              </a:rPr>
              <a:t>Коммуникативный принцип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1000080" y="1143000"/>
            <a:ext cx="8042400" cy="4975200"/>
            <a:chOff x="1000080" y="1143000"/>
            <a:chExt cx="8042400" cy="4975200"/>
          </a:xfrm>
        </p:grpSpPr>
        <p:pic>
          <p:nvPicPr>
            <p:cNvPr id="111" name="Picture 3" descr=""/>
            <p:cNvPicPr/>
            <p:nvPr/>
          </p:nvPicPr>
          <p:blipFill>
            <a:blip r:embed="rId1"/>
            <a:stretch/>
          </p:blipFill>
          <p:spPr>
            <a:xfrm>
              <a:off x="1000080" y="1500120"/>
              <a:ext cx="7549560" cy="461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4" descr=""/>
            <p:cNvPicPr/>
            <p:nvPr/>
          </p:nvPicPr>
          <p:blipFill>
            <a:blip r:embed="rId2"/>
            <a:stretch/>
          </p:blipFill>
          <p:spPr>
            <a:xfrm>
              <a:off x="8056440" y="1143000"/>
              <a:ext cx="986040" cy="90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5"/>
          <p:cNvGrpSpPr/>
          <p:nvPr/>
        </p:nvGrpSpPr>
        <p:grpSpPr>
          <a:xfrm>
            <a:off x="500040" y="214200"/>
            <a:ext cx="7929720" cy="928800"/>
            <a:chOff x="500040" y="214200"/>
            <a:chExt cx="7929720" cy="928800"/>
          </a:xfrm>
        </p:grpSpPr>
        <p:sp>
          <p:nvSpPr>
            <p:cNvPr id="115" name="Rectangle 7"/>
            <p:cNvSpPr/>
            <p:nvPr/>
          </p:nvSpPr>
          <p:spPr>
            <a:xfrm>
              <a:off x="500040" y="214200"/>
              <a:ext cx="7929720" cy="928800"/>
            </a:xfrm>
            <a:prstGeom prst="rect">
              <a:avLst/>
            </a:prstGeom>
            <a:solidFill>
              <a:srgbClr val="78d5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Picture 6" descr=""/>
            <p:cNvPicPr/>
            <p:nvPr/>
          </p:nvPicPr>
          <p:blipFill>
            <a:blip r:embed="rId3"/>
            <a:stretch/>
          </p:blipFill>
          <p:spPr>
            <a:xfrm>
              <a:off x="2842200" y="500400"/>
              <a:ext cx="3263040" cy="434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6T06:13:07Z</dcterms:created>
  <dc:creator>.</dc:creator>
  <dc:description/>
  <dc:language>en-US</dc:language>
  <cp:lastModifiedBy>Лариса</cp:lastModifiedBy>
  <dcterms:modified xsi:type="dcterms:W3CDTF">2024-11-10T14:11:42Z</dcterms:modified>
  <cp:revision>190</cp:revision>
  <dc:subject/>
  <dc:title>Образовательных условия, учитывающие особые образовательные потребности обучающегося с нарушением слуха (глухота)</dc:title>
</cp:coreProperties>
</file>